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50"/>
                </a:solidFill>
                <a:latin typeface="Calibri"/>
              </a:rPr>
              <a:t>Click to move the slide</a:t>
            </a: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ED88-55A4-4929-A35F-90C51230DE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DD1-4BEA-4649-8AA2-EAC5179F10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1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2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77CE-CE43-4023-A97E-D39DB019D269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42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09EB-C007-4290-A072-76649F793FDD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m 6" descr=""/>
          <p:cNvPicPr/>
          <p:nvPr/>
        </p:nvPicPr>
        <p:blipFill>
          <a:blip r:embed="rId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magem 15" descr="brasao.png"/>
          <p:cNvPicPr/>
          <p:nvPr/>
        </p:nvPicPr>
        <p:blipFill>
          <a:blip r:embed="rId6"/>
          <a:stretch/>
        </p:blipFill>
        <p:spPr>
          <a:xfrm>
            <a:off x="4971960" y="4444920"/>
            <a:ext cx="144144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8"/>
          <p:cNvSpPr/>
          <p:nvPr/>
        </p:nvSpPr>
        <p:spPr>
          <a:xfrm>
            <a:off x="4417920" y="61279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em 9" descr=""/>
          <p:cNvPicPr/>
          <p:nvPr/>
        </p:nvPicPr>
        <p:blipFill>
          <a:blip r:embed="rId7"/>
          <a:stretch/>
        </p:blipFill>
        <p:spPr>
          <a:xfrm>
            <a:off x="6993000" y="4459320"/>
            <a:ext cx="2395440" cy="211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5" descr=""/>
          <p:cNvPicPr/>
          <p:nvPr/>
        </p:nvPicPr>
        <p:blipFill>
          <a:blip r:embed="rId2"/>
          <a:srcRect l="0" t="94105" r="49275" b="-392"/>
          <a:stretch/>
        </p:blipFill>
        <p:spPr>
          <a:xfrm>
            <a:off x="0" y="6408720"/>
            <a:ext cx="5024520" cy="501840"/>
          </a:xfrm>
          <a:prstGeom prst="rect">
            <a:avLst/>
          </a:prstGeom>
          <a:ln w="0">
            <a:noFill/>
          </a:ln>
        </p:spPr>
      </p:pic>
      <p:pic>
        <p:nvPicPr>
          <p:cNvPr id="87" name="Imagem 15" descr="brasao.png"/>
          <p:cNvPicPr/>
          <p:nvPr/>
        </p:nvPicPr>
        <p:blipFill>
          <a:blip r:embed="rId3"/>
          <a:stretch/>
        </p:blipFill>
        <p:spPr>
          <a:xfrm>
            <a:off x="5024520" y="6496200"/>
            <a:ext cx="331560" cy="41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5335560" y="65944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nistério da Fazend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2" descr=""/>
          <p:cNvPicPr/>
          <p:nvPr/>
        </p:nvPicPr>
        <p:blipFill>
          <a:blip r:embed="rId4"/>
          <a:srcRect l="87233" t="94105" r="0" b="0"/>
          <a:stretch/>
        </p:blipFill>
        <p:spPr>
          <a:xfrm>
            <a:off x="6554880" y="6383160"/>
            <a:ext cx="1568520" cy="501840"/>
          </a:xfrm>
          <a:prstGeom prst="rect">
            <a:avLst/>
          </a:prstGeom>
          <a:ln w="0">
            <a:noFill/>
          </a:ln>
        </p:spPr>
      </p:pic>
      <p:sp>
        <p:nvSpPr>
          <p:cNvPr id="90" name="CaixaDeTexto 13"/>
          <p:cNvSpPr/>
          <p:nvPr/>
        </p:nvSpPr>
        <p:spPr>
          <a:xfrm>
            <a:off x="9056520" y="6502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240E-A2EF-48EE-9025-D2B7C724ADE2}" type="slidenum">
              <a:rPr b="1" lang="pt-BR" sz="1800" spc="-1" strike="noStrike">
                <a:solidFill>
                  <a:srgbClr val="19275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6" descr=""/>
          <p:cNvPicPr/>
          <p:nvPr/>
        </p:nvPicPr>
        <p:blipFill>
          <a:blip r:embed="rId5"/>
          <a:stretch/>
        </p:blipFill>
        <p:spPr>
          <a:xfrm>
            <a:off x="0" y="2189160"/>
            <a:ext cx="4821120" cy="351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90680" y="1628280"/>
            <a:ext cx="712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Arial"/>
                <a:ea typeface="Arial"/>
              </a:rPr>
              <a:t>Programa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 de Regularização Tributária dos Estados e Municípios – PREM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MP 778/2017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Frederico Faber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Receita Federal – 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Coordenador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de Cobrança</a:t>
            </a:r>
            <a:br>
              <a:rPr sz="4000"/>
            </a:br>
            <a:br>
              <a:rPr sz="4000"/>
            </a:b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6" name="Retângulo 2"/>
          <p:cNvSpPr/>
          <p:nvPr/>
        </p:nvSpPr>
        <p:spPr>
          <a:xfrm>
            <a:off x="9056520" y="6453360"/>
            <a:ext cx="362160" cy="3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0" y="1890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IVOS E ESCO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ângulo 14"/>
          <p:cNvSpPr/>
          <p:nvPr/>
        </p:nvSpPr>
        <p:spPr>
          <a:xfrm>
            <a:off x="128520" y="1679400"/>
            <a:ext cx="9433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rograma destinado aos ESTADOS, DISTRITO FEDERAL E MUNICÍPIOS, e das respectivas autarquias e fundações públicas, com vistas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stimular a regularização de passivo tributário das contribuições previdenciárias exigíveis, constituído por declaração do contribuinte ou lançado de ofício, ou parcel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olucionar litígios tributários constantes em ações judici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Permitir a autorregularização de contribuintes que, embora obrigados, não tenham apresentado as declarações à Receita Federa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A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tângulo 14"/>
          <p:cNvSpPr/>
          <p:nvPr/>
        </p:nvSpPr>
        <p:spPr>
          <a:xfrm>
            <a:off x="344520" y="930240"/>
            <a:ext cx="9217080" cy="58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</a:rPr>
              <a:t>Modalida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Uma modalidade no âmbito da RFB e outra na PGFN, com pedidos disti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Para cada âmbito RFB e PGF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trada de 2,4% dívida, em 6 parcelas entre julho a dezembro de 2017, calculada sobre o montante total da dívida, sem redu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O restante, com redução de 80% nos juros e 25% nas multas e encargos, </a:t>
            </a: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na menor prestação mensal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quivalente à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/194 da dívida consolidada restantes com reduções; 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1% da média mensal da Receita Corrente Líquida (RCL) do ano anterior (0,5% até a consolidação) – em caso de adesão simultânea à RFB e PGFN este percentual será metade para cada órg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Forma de pagamento das parcelas: retenção no FPE e F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056520" y="93600"/>
            <a:ext cx="6066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2758"/>
                </a:solidFill>
                <a:latin typeface="Arial"/>
                <a:ea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ângulo 7"/>
          <p:cNvSpPr/>
          <p:nvPr/>
        </p:nvSpPr>
        <p:spPr>
          <a:xfrm>
            <a:off x="0" y="-27000"/>
            <a:ext cx="9906120" cy="836640"/>
          </a:xfrm>
          <a:prstGeom prst="rect">
            <a:avLst/>
          </a:prstGeom>
          <a:solidFill>
            <a:srgbClr val="1927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tângulo 8"/>
          <p:cNvSpPr/>
          <p:nvPr/>
        </p:nvSpPr>
        <p:spPr>
          <a:xfrm>
            <a:off x="200160" y="189000"/>
            <a:ext cx="9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Imagem 1" descr=""/>
          <p:cNvPicPr/>
          <p:nvPr/>
        </p:nvPicPr>
        <p:blipFill>
          <a:blip r:embed="rId1"/>
          <a:stretch/>
        </p:blipFill>
        <p:spPr>
          <a:xfrm>
            <a:off x="738360" y="1025640"/>
            <a:ext cx="835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3:42Z</dcterms:created>
  <dc:creator>Receita Federal</dc:creator>
  <dc:description/>
  <dc:language>en-US</dc:language>
  <cp:lastModifiedBy>Silvana do Socorro Machado Rodrigues - MPS</cp:lastModifiedBy>
  <cp:lastPrinted>2015-05-14T17:45:57Z</cp:lastPrinted>
  <dcterms:modified xsi:type="dcterms:W3CDTF">2017-08-30T17:44:51Z</dcterms:modified>
  <cp:revision>547</cp:revision>
  <dc:subject/>
  <dc:title>Workshop de Estudos e Pesquisa na RFB  Visão geral dos trabalhos realizados pela Copan</dc:title>
</cp:coreProperties>
</file>